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09A-5AA5-43C3-88BA-0425FA24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DE2-7E31-4DC4-96F5-3DAE10C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9EC-C047-4CF2-9BF3-04B180D7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5AE-D814-49A9-854B-444A1EF1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F68-CB61-425F-8DFB-6709CBD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1E-3CF2-4A0E-89DB-0A8BBA8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1AE-A8AB-4E4F-8813-BDDF3A10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573-0C5F-42D9-9961-714EABD3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B2D-E92B-4361-A71E-6FAC12B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1FE-9951-4A2F-90B5-39A5EF2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51A-0DA3-4005-B2FF-8FEA825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3EA-AA92-44E9-A70C-FECF21B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4F6D-9B3A-4DAA-9D67-6F3B788F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sc.discovery.com/technology/tech-10/wind-energy-top-countries.html" TargetMode="External"/><Relationship Id="rId2" Type="http://schemas.openxmlformats.org/officeDocument/2006/relationships/hyperlink" Target="http://www.buzzle.com/articles/advantages-disadvantages-wind-energy.html" TargetMode="External"/><Relationship Id="rId3" Type="http://schemas.openxmlformats.org/officeDocument/2006/relationships/hyperlink" Target="http://www.buzzle.com/articles/advantages-disadvantages-wind-energy.html" TargetMode="External"/><Relationship Id="rId4" Type="http://schemas.openxmlformats.org/officeDocument/2006/relationships/hyperlink" Target="http://www.buzzle.com/articles/advantages-disadvantages-wind-energy.html" TargetMode="External"/><Relationship Id="rId5" Type="http://schemas.openxmlformats.org/officeDocument/2006/relationships/hyperlink" Target="http://www.buzzle.com/articles/advantages-disadvantages-wind-energy.html" TargetMode="External"/><Relationship Id="rId6" Type="http://schemas.openxmlformats.org/officeDocument/2006/relationships/hyperlink" Target="http://www1.eere.energy.gov/windandhydro/wind_ad.html" TargetMode="External"/><Relationship Id="rId7" Type="http://schemas.openxmlformats.org/officeDocument/2006/relationships/hyperlink" Target="http://www.energyquest.ca.gov/story/chapter16.html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524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orte"/>
              </a:rPr>
              <a:t>Wi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irieth 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aque Nich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lyssa Ruqq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Wind Bl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2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is the result of pressure differences between two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moves from an area of higher pressure toward an area of low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r the difference in pressure, the stronger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differences are normally created by the uneven heating and cooling of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800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General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energy is a form of energy that uses wind turbines to convert the kinetic energy of the wind into other forms of ener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mechanical energy for grinding grain or pumping water or electrical energy to power homes, schools, and so 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energy can produce about 50 to 300 kilowatts of electricity e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5638680"/>
            <a:ext cx="487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915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des of the turbine are attached to a hub that is mounted on a turning shaft which goes through a transmission box where the speed is continually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mission box is attached to a high speed shaft which turns on a generator that makes electri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s have to be above 12 to 14 m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rbine has a brake that keeps the blades from turning too fast and being dam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9532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e, abundant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distributed, readily available around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est way to produce energy on a larg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no pollution, reduces toxic gas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nefit economy in rural areas since the turbines can be built on farms and 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number of turbines have to be built to produc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ines create a large amount of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predi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dispatch able, cannot b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higher inves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5238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Disadvant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Positives &amp; Ne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Wind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0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st potential for land based wind power in the Mid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st potential for off shore wind power located on the pacific sh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848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76920" y="15235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 energy mostly generated out of Germany and US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 10 countries that can use wind power are Germany, Denmark, USA, Spain, India, china, Portugal, France, Italy, and the United Kingd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sc.discovery.com/technology/tech-10/wind-energy-top-countr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057400"/>
            <a:ext cx="7391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uzzle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articles/advantages-disadvantages-wind-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erg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1.eere.energy.gov/windandhydro/wind_a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nergyquest.ca.gov/story/chapter16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7:47:50Z</dcterms:created>
  <dc:creator>sasd</dc:creator>
  <dc:description/>
  <dc:language>en-US</dc:language>
  <cp:lastModifiedBy>SASD</cp:lastModifiedBy>
  <dcterms:modified xsi:type="dcterms:W3CDTF">2009-04-23T16:44:27Z</dcterms:modified>
  <cp:revision>11</cp:revision>
  <dc:subject/>
  <dc:title>Wind</dc:title>
</cp:coreProperties>
</file>